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F5C-FDE6-415F-A2D9-7CFA66EB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DC0-A01E-4977-A9DD-80690519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742-43AD-4457-B91E-59EFA427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9B9-2FBF-48D8-A0DF-759ECA9F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6EE-A7A9-4865-8291-E45B7E0C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4EC-B158-41BB-809E-E92B8A69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CD8-6D20-4FAF-BCAC-B6290390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8D7-9AEC-4FB7-9382-F2785ECE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4B0-3B17-441B-8B42-7B739604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0C5-E926-45E1-9E21-AF44ECBD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2E8-5ACE-4C6B-8217-94C10CE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9FE-0A1B-4391-B6EE-99A9502D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1779-6945-4838-BB5F-D8FAA6EB2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IRECTIONALIT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3:16Z</dcterms:modified>
  <cp:revision>99</cp:revision>
  <dc:subject/>
  <dc:title>The Art in the State of the Art</dc:title>
</cp:coreProperties>
</file>